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7707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9C-CA94-4000-9116-50E3BBF7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45C-362A-4372-BC52-CDA864C6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4E3-7394-46A9-8963-D2418F3D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CA8-B6E3-45D1-BD2E-06A8C2FE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C61-CFB3-4930-BC9F-10CA1540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37D2-3F40-4772-A412-D23F6D5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8DEC-548E-4423-86B6-F22EBD74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1FAB-7711-454E-8E0C-290364B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0BD8-3C2D-4344-A953-EFC476C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CF1-3BAF-486F-AC04-F75CA1A9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07A8-E178-4C7A-A640-F251A29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33B-9D75-4998-9373-3480B391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F85-E48E-43A6-9252-A7CD3D8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A1D1-3839-4C80-B865-9CB5EC5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9E7F-69E3-4C6C-AC58-7E4F01F2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8B4-C988-4DE6-A95F-FBF29632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9D91-796A-48BF-AA17-2AFEA11E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FEB9-A2BD-4ACA-AEE8-4C8A37B1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B7B9-58B8-44D4-9520-23F48B0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8428-EAD2-4D53-80FE-C508E80C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C267-0D0D-43EB-9B81-2738890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EC13-083A-419A-8AE8-21F02414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BF0-80D7-4882-98FB-5F2B079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599E-23EA-4EF2-B290-DB3D60A8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6182-1205-4D73-9FAE-5F77D58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60ED-3AC1-4F2D-9BA7-4A545CF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019F2-81EE-4FF2-97D9-F2562D1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2245-8157-4E81-9A3A-302F3C19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BA0D-726F-4A19-B933-A279F17F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882F-A911-4738-A8B0-15F1DF2F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EF51B-8B5B-4AE7-8821-B9497B46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1DA1-7774-4CE7-98D9-D7DFE267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BF755-F9FD-4231-832B-61759DE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C87-7D50-486A-8D0F-D93FF80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4306-B2FC-4D4C-992F-5715B83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52C7-AB06-4D9C-8A4D-05FAA001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CDD5-0CCF-42B1-BFBF-4E7F672B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E789D-703F-4FD3-99D3-80E4E7A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27C8-DDB5-4BC7-BB70-84FE9C8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DF81-7823-4E10-A9BE-74B8404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1F32-8A1B-40C9-99C4-49F8A681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244BF-E1A6-45D2-ABA6-7DD066A1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B76A-E5BC-49ED-A45E-3DDEC914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199A-6DD8-4B51-BBCE-FE0F45DC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4BA-50AF-42EC-BFA1-CDCBE50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48F86-789A-4CE1-8115-CB3F8D94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F8DA-ED85-4247-9A7C-C77827D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8B8E-7B12-4A7B-A5D4-29CF0B6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46347-0404-4819-96C7-C1F34805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3F91-56EB-4F13-8BDF-0E0D202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48E8-51DD-44DF-961D-AF36EE5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9ED08-33EA-406E-BBB0-FEDE29C9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7E9B9-91F7-4FBF-87C9-CC6DF094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FA39F-37D1-40D3-B43C-6089B7A2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D6A43-18FD-40D1-8C32-6C6D5ABA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8BA-AE67-43D2-AD7B-8163155C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8527C-099D-44E0-9B39-63F91C99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525-EC06-4172-A236-036C2F51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6F5-2785-4E70-8563-54D8480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EC3-1BF9-46BC-8B2C-9A05AFB1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D650-2399-4CA4-9618-52787869D89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2BE-9BEB-4A05-9720-73F98353BC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3C3D-21CE-4796-81AF-F9C0C3783B5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3BBF-B28A-4292-B830-34803383E3F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834D-226F-4AC6-B6C0-E81C4CDAB8C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cribd.com/doc/111778965/Web-2-0-Annotation-and-Bookmarking-Tools-A-Quick-Guide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Verdana"/>
              </a:rPr>
              <a:t>Diigo</a:t>
            </a:r>
            <a:br>
              <a:rPr sz="4100"/>
            </a:br>
            <a:r>
              <a:rPr b="1" lang="en-US" sz="41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diigo.com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 Bookmarking Tool that .does so much m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r. Carole Redline,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77616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Notice all the options in the pull down menu . My Library is impor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85089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My Groups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5c00"/>
                </a:solidFill>
                <a:latin typeface="Verdana"/>
              </a:rPr>
              <a:t>Login and go to my groups. This example is just one wa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510552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4800600" y="34290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with all new progra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 pull down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you can see the groups I hav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6"/>
          <p:cNvCxnSpPr/>
          <p:nvPr/>
        </p:nvCxnSpPr>
        <p:spPr>
          <a:xfrm flipH="1" flipV="1">
            <a:off x="2971440" y="2133000"/>
            <a:ext cx="2057760" cy="1600920"/>
          </a:xfrm>
          <a:prstGeom prst="straightConnector1">
            <a:avLst/>
          </a:prstGeom>
          <a:ln w="5724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++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Oval 4"/>
          <p:cNvSpPr/>
          <p:nvPr/>
        </p:nvSpPr>
        <p:spPr>
          <a:xfrm>
            <a:off x="6324480" y="1066680"/>
            <a:ext cx="2362320" cy="2057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Oval 4"/>
          <p:cNvSpPr/>
          <p:nvPr/>
        </p:nvSpPr>
        <p:spPr>
          <a:xfrm>
            <a:off x="533520" y="3962520"/>
            <a:ext cx="3276360" cy="2361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5349600" y="426708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other groups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ht consid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6705720" y="3276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344240" y="1905120"/>
            <a:ext cx="77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igo in Education is my favorit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es they suggest often fuel my scoop it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gestions are sent to me through email. I click on links and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I want to bookmark this site, share it with a group, or scoop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cxnSp>
        <p:nvCxnSpPr>
          <p:cNvPr id="273" name="Straight Arrow Connector 5"/>
          <p:cNvCxnSpPr/>
          <p:nvPr/>
        </p:nvCxnSpPr>
        <p:spPr>
          <a:xfrm flipH="1">
            <a:off x="7009560" y="3427920"/>
            <a:ext cx="3506040" cy="213444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4518000" y="3809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use other than a school e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is not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1828800" y="4495680"/>
            <a:ext cx="8001000" cy="7621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1158228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5-Point Star 3"/>
          <p:cNvSpPr/>
          <p:nvPr/>
        </p:nvSpPr>
        <p:spPr>
          <a:xfrm>
            <a:off x="7162920" y="762120"/>
            <a:ext cx="2286000" cy="2057400"/>
          </a:xfrm>
          <a:custGeom>
            <a:avLst/>
            <a:gdLst>
              <a:gd name="textAreaLeft" fmla="*/ 706320 w 2286000"/>
              <a:gd name="textAreaRight" fmla="*/ 1579680 w 2286000"/>
              <a:gd name="textAreaTop" fmla="*/ 785880 h 2057400"/>
              <a:gd name="textAreaBottom" fmla="*/ 1571760 h 2057400"/>
            </a:gdLst>
            <a:ahLst/>
            <a:rect l="textAreaLeft" t="textAreaTop" r="textAreaRight" b="textAreaBottom"/>
            <a:pathLst>
              <a:path w="2286000" h="2057400">
                <a:moveTo>
                  <a:pt x="2" y="785855"/>
                </a:moveTo>
                <a:lnTo>
                  <a:pt x="873179" y="785860"/>
                </a:lnTo>
                <a:lnTo>
                  <a:pt x="1143000" y="0"/>
                </a:lnTo>
                <a:lnTo>
                  <a:pt x="1412821" y="785860"/>
                </a:lnTo>
                <a:lnTo>
                  <a:pt x="2285998" y="785855"/>
                </a:lnTo>
                <a:lnTo>
                  <a:pt x="1579580" y="1271537"/>
                </a:lnTo>
                <a:lnTo>
                  <a:pt x="1849414" y="2057393"/>
                </a:lnTo>
                <a:lnTo>
                  <a:pt x="1143000" y="1571703"/>
                </a:lnTo>
                <a:lnTo>
                  <a:pt x="436586" y="2057393"/>
                </a:lnTo>
                <a:lnTo>
                  <a:pt x="706420" y="1271537"/>
                </a:lnTo>
                <a:close/>
              </a:path>
            </a:pathLst>
          </a:custGeom>
          <a:noFill/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752480" y="2362320"/>
            <a:ext cx="70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want the teacher console after you work with Diigo for a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ption for educator let’s you set up accounts for you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095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2666880" y="1219320"/>
            <a:ext cx="3429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solidFill>
            <a:srgbClr val="9f2936"/>
          </a:solidFill>
          <a:ln w="42480">
            <a:solidFill>
              <a:srgbClr val="741b2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ducator? Get Started he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870120" y="530280"/>
            <a:ext cx="7449840" cy="418788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5"/>
          <p:cNvCxnSpPr/>
          <p:nvPr/>
        </p:nvCxnSpPr>
        <p:spPr>
          <a:xfrm flipH="1">
            <a:off x="6247800" y="3047040"/>
            <a:ext cx="1524600" cy="10674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25" name="TextBox 4"/>
          <p:cNvSpPr/>
          <p:nvPr/>
        </p:nvSpPr>
        <p:spPr>
          <a:xfrm>
            <a:off x="4061520" y="68580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you school email acc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n educators account for mor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183520" cy="852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Reference  Web 2.0Annotation &amp;BookmarkingTools:AQuick 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scribd.com/doc/111778965/Web-2-0-Annotation-and-Bookmarking-Tools-A-Quick-Gu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85800" y="5335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igo  allows the user to see any bookmarked sites on any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web. You sign into your account and no matt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ookmarks are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lso you can highlight right on any  websit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nd your students can make comments on the websit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you ideas. Those highlights and comments will stay on the site even after you close it. Just login to your account to see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share ideas with your own groups or gather idea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groups, Choose how and when to receive email ale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ool takes a little time, patience and practice but it is so worthw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ime to explore Dii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Use the Help Services</a:t>
            </a:r>
            <a:br>
              <a:rPr sz="3200"/>
            </a:b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Dream big: How can your class use Diigo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6160"/>
          </a:xfrm>
          <a:prstGeom prst="rect">
            <a:avLst/>
          </a:prstGeom>
          <a:ln w="0">
            <a:noFill/>
          </a:ln>
        </p:spPr>
      </p:pic>
      <p:sp>
        <p:nvSpPr>
          <p:cNvPr id="292" name="Oval 4"/>
          <p:cNvSpPr/>
          <p:nvPr/>
        </p:nvSpPr>
        <p:spPr>
          <a:xfrm>
            <a:off x="0" y="-304920"/>
            <a:ext cx="1752480" cy="14479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5-Point Star 4"/>
          <p:cNvSpPr/>
          <p:nvPr/>
        </p:nvSpPr>
        <p:spPr>
          <a:xfrm>
            <a:off x="3276720" y="5257800"/>
            <a:ext cx="1981080" cy="914400"/>
          </a:xfrm>
          <a:custGeom>
            <a:avLst/>
            <a:gdLst>
              <a:gd name="textAreaLeft" fmla="*/ 612000 w 1981080"/>
              <a:gd name="textAreaRight" fmla="*/ 1369080 w 198108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1981200" h="914400">
                <a:moveTo>
                  <a:pt x="2" y="349269"/>
                </a:moveTo>
                <a:lnTo>
                  <a:pt x="756755" y="349271"/>
                </a:lnTo>
                <a:lnTo>
                  <a:pt x="990600" y="0"/>
                </a:lnTo>
                <a:lnTo>
                  <a:pt x="1224445" y="349271"/>
                </a:lnTo>
                <a:lnTo>
                  <a:pt x="1981198" y="349269"/>
                </a:lnTo>
                <a:lnTo>
                  <a:pt x="1368969" y="565127"/>
                </a:lnTo>
                <a:lnTo>
                  <a:pt x="1602825" y="914397"/>
                </a:lnTo>
                <a:lnTo>
                  <a:pt x="990600" y="698535"/>
                </a:lnTo>
                <a:lnTo>
                  <a:pt x="378375" y="914397"/>
                </a:lnTo>
                <a:lnTo>
                  <a:pt x="612231" y="565127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233" name="Oval 4"/>
          <p:cNvSpPr/>
          <p:nvPr/>
        </p:nvSpPr>
        <p:spPr>
          <a:xfrm>
            <a:off x="609480" y="3276720"/>
            <a:ext cx="5029200" cy="304560"/>
          </a:xfrm>
          <a:prstGeom prst="ellipse">
            <a:avLst/>
          </a:prstGeom>
          <a:noFill/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  <p:cxnSp>
        <p:nvCxnSpPr>
          <p:cNvPr id="237" name="Straight Arrow Connector 5"/>
          <p:cNvCxnSpPr/>
          <p:nvPr/>
        </p:nvCxnSpPr>
        <p:spPr>
          <a:xfrm flipH="1">
            <a:off x="9143640" y="4266720"/>
            <a:ext cx="2057760" cy="20577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ign in --</a:t>
            </a:r>
            <a:r>
              <a:rPr b="1" lang="en-US" sz="3600" spc="-1" strike="noStrike">
                <a:solidFill>
                  <a:srgbClr val="ff8d3e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o to tool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5029200"/>
          </a:xfrm>
          <a:prstGeom prst="rect">
            <a:avLst/>
          </a:prstGeom>
          <a:ln w="0">
            <a:noFill/>
          </a:ln>
        </p:spPr>
      </p:pic>
      <p:cxnSp>
        <p:nvCxnSpPr>
          <p:cNvPr id="240" name="Straight Arrow Connector 5"/>
          <p:cNvCxnSpPr/>
          <p:nvPr/>
        </p:nvCxnSpPr>
        <p:spPr>
          <a:xfrm flipV="1">
            <a:off x="6934320" y="761400"/>
            <a:ext cx="1219680" cy="2439000"/>
          </a:xfrm>
          <a:prstGeom prst="straightConnector1">
            <a:avLst/>
          </a:prstGeom>
          <a:ln w="2844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Run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 run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 yes</a:t>
            </a:r>
            <a:r>
              <a:rPr b="0" lang="en-US" sz="3600" spc="-1" strike="noStrike">
                <a:solidFill>
                  <a:srgbClr val="79766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accep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5624280"/>
            <a:ext cx="8183520" cy="6238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This is how you get the tool bar that allows you to highlight on the web. Foxfire is different. You may need help he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04920" y="-914400"/>
            <a:ext cx="85341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28600" y="220680"/>
            <a:ext cx="861048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How to add a bookmark.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95c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04920" y="0"/>
            <a:ext cx="84708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3:35:29Z</dcterms:created>
  <dc:creator>Carole</dc:creator>
  <dc:description/>
  <dc:language>en-US</dc:language>
  <cp:lastModifiedBy>CaroleR</cp:lastModifiedBy>
  <dcterms:modified xsi:type="dcterms:W3CDTF">2013-03-14T15:45:02Z</dcterms:modified>
  <cp:revision>37</cp:revision>
  <dc:subject/>
  <dc:title>Diigo http://www.diigo.com</dc:title>
</cp:coreProperties>
</file>